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72D-184E-4CA8-A8BF-BD80CC94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AE41-6A5A-4D24-89F1-DB291A40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4D4-60A6-42F8-A5AE-1633A2E4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3F3-9794-49C0-9635-FE7395CB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97A-5AC5-4753-A9BE-2BD4432C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B17-598E-460A-B69F-37315A3C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F2C-BECC-4665-87BD-84A4ABE4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B92-590B-491E-A2E7-780250F5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44A-5B9F-4FAA-9918-040419D9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E5E-D128-45C5-82BB-BA8945A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2D7-7477-4518-9C88-69C659E7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5D4-F416-4F0F-9A8D-7F99CE1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ACC0-A06F-449C-99D2-E953D2B7C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educators/p_docs.html" TargetMode="External"/><Relationship Id="rId2" Type="http://schemas.openxmlformats.org/officeDocument/2006/relationships/hyperlink" Target="http://www.google.com/educators/index.html" TargetMode="External"/><Relationship Id="rId3" Type="http://schemas.openxmlformats.org/officeDocument/2006/relationships/hyperlink" Target="http://www.google.com/educators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ocs.google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9640800" y="7112160"/>
            <a:ext cx="520920" cy="50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8800" y="3723840"/>
            <a:ext cx="65023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98800" y="4282560"/>
            <a:ext cx="65023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d7d7d"/>
                </a:solidFill>
                <a:latin typeface="Arial"/>
              </a:rPr>
              <a:t>An Overview for Edu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52320" y="3759120"/>
            <a:ext cx="1901880" cy="768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6383160" y="6670800"/>
            <a:ext cx="3675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Writing for an authentic audi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0960" y="6000840"/>
            <a:ext cx="865800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825480" y="6076800"/>
            <a:ext cx="85089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Publish a document to make it visible to an authentic audience: parents, peers, and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You can even publish directly to your blo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79600" y="1417680"/>
            <a:ext cx="91454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0" y="3200400"/>
            <a:ext cx="65023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Not just documents…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Spreadsheets and presentations,</a:t>
            </a: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o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spreadshee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96800" y="1722600"/>
            <a:ext cx="8996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preadsheet forms simplify data coll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754200" y="6338880"/>
            <a:ext cx="8567640" cy="104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98480" y="6411960"/>
            <a:ext cx="84535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Create a survey or poll in a few easy ste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Your respondents’ data appears in your spreadsheet as they fill it 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717480" y="1160640"/>
            <a:ext cx="4232520" cy="498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5719680" y="2035080"/>
            <a:ext cx="4029120" cy="3490920"/>
          </a:xfrm>
          <a:prstGeom prst="rect">
            <a:avLst/>
          </a:prstGeom>
          <a:ln w="0">
            <a:noFill/>
          </a:ln>
        </p:spPr>
      </p:pic>
      <p:sp>
        <p:nvSpPr>
          <p:cNvPr id="92" name="Freeform 8"/>
          <p:cNvSpPr/>
          <p:nvPr/>
        </p:nvSpPr>
        <p:spPr>
          <a:xfrm>
            <a:off x="5089680" y="3138480"/>
            <a:ext cx="500040" cy="814320"/>
          </a:xfrm>
          <a:custGeom>
            <a:avLst/>
            <a:gdLst>
              <a:gd name="textAreaLeft" fmla="*/ 0 w 500040"/>
              <a:gd name="textAreaRight" fmla="*/ 500400 w 50004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presenta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50960" y="5978520"/>
            <a:ext cx="8658000" cy="1197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825480" y="6053040"/>
            <a:ext cx="850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You can import existing PowerPoint presentations or create new ones from scr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Insert images and videos, and format your slides to fit your prefere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Publish and embed your presentations in a website, allowing access to a wide audi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1795320" y="1335240"/>
            <a:ext cx="64357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tudents can chat while others are present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0960" y="6286680"/>
            <a:ext cx="8658000" cy="1196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825480" y="6357960"/>
            <a:ext cx="8508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One student talked aloud while everyone listened and chatted about the presentation… For the first time I can EVER remember as a teacher - 100% of the students were engaged in the presentation and participated in the chat. The students were enthusiastic and offered insightful and appropriate comments.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        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- Computer Applications teacher, Beaverton, 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536840" y="1270080"/>
            <a:ext cx="67132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Example Exerci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92560" y="1404720"/>
            <a:ext cx="524520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Journa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Essays (individual or co-edite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research papers (history, geography, scien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book repo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reative writing (script writing, poetr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Writing portfol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Stock portfolio (live 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Graphs, charts, and data presentation techniqu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Presenting group re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Active student participation during a presen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003320" y="139068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984240" y="5389560"/>
            <a:ext cx="2270160" cy="174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1003320" y="3325680"/>
            <a:ext cx="22510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Makes planning and admin tasks easi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71480" y="6624720"/>
            <a:ext cx="8605800" cy="75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847800" y="6702480"/>
            <a:ext cx="846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Teachers create and share lesson plans, meeting notes, and contact information in Google 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87240" y="1316160"/>
            <a:ext cx="5667480" cy="4730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3638520" y="2395440"/>
            <a:ext cx="5403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2920" y="3095640"/>
            <a:ext cx="9110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Visit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Google Docs p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on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 for Educators s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 get other Google Docs resourc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oogle.com/educat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3997440" y="422280"/>
            <a:ext cx="1992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62120" y="6073920"/>
            <a:ext cx="8636040" cy="1060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833400" y="6151680"/>
            <a:ext cx="84931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 Docs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 is a free, web-based word processor, spreadsheet and presentation tool that allows you to </a:t>
            </a: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reate and edit documents from anywhere and collaborate with multiple people at the sam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1905120" y="1104840"/>
            <a:ext cx="63500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nywhere access &amp; collabo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19280" y="5407200"/>
            <a:ext cx="8721720" cy="1958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08200" y="5573880"/>
            <a:ext cx="85820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is differ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Documents are saved online and can be accessed from any computer with an Internet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Collaboration: Multiple people can work together on the same document. No need to email documents back and 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969920" y="1224000"/>
            <a:ext cx="4610160" cy="367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3370320" y="1841400"/>
            <a:ext cx="4767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98800" y="3266640"/>
            <a:ext cx="65023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How Google Docs helps educators and stud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ccess documents from anywhe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7480" y="5094360"/>
            <a:ext cx="8721720" cy="1960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43040" y="5251320"/>
            <a:ext cx="85834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can work from both school and home since documents are stored securely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All you need is browser and internet connection, no software version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No more “I forgot my work” exc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324240" y="193356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aves changes automatical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08120" y="5103720"/>
            <a:ext cx="8751960" cy="2282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973080" y="5297400"/>
            <a:ext cx="82519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saves automatically, on a regular basis. Each change is tracked as a new revision. You can see exactly what’s been revised, by whom, and w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523800" y="1427040"/>
            <a:ext cx="9145800" cy="3370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1166760" y="6237360"/>
            <a:ext cx="7548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Teachers are able to individually assess student participation and content using the revision tab on Google Docs to see how editing is proceeding and to encourage students as they work.”         - Technology coordinator, Lafayette, 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c3c3c"/>
                </a:solidFill>
                <a:latin typeface="Arial"/>
              </a:rPr>
              <a:t>Collaboration gets students excited and engag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762120" y="6035760"/>
            <a:ext cx="8636040" cy="1392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844560" y="6154560"/>
            <a:ext cx="8348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love it, no more coaxing kids to do their writing assignments. They beg to go to the computer lab to work on a collaborative assignment with their partne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- High School Journalism teacher, Palo Alto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1168560" y="1270080"/>
            <a:ext cx="7893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dd collaborators to docu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30080" y="5724360"/>
            <a:ext cx="8699760" cy="1758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074600" y="5915160"/>
            <a:ext cx="8031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fter students invite you to their documen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you can review, comment, and grade their work at any 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it's hard for students to tell fibs when you can see their work at all ti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lso, students can work together on projects and get peer feedba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496800" y="1676520"/>
            <a:ext cx="9145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Folders organize your students’ wor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71480" y="6153120"/>
            <a:ext cx="8588520" cy="1236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9880" y="6226200"/>
            <a:ext cx="84801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olders keep student work 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andard naming schemes allow you to sort by “Name” to easily find a class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976320" y="1316160"/>
            <a:ext cx="79344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mber Bunce</cp:lastModifiedBy>
  <dcterms:modified xsi:type="dcterms:W3CDTF">2011-05-03T01:33:54Z</dcterms:modified>
  <cp:revision>1</cp:revision>
  <dc:subject/>
  <dc:title>PowerPoint Presentation</dc:title>
</cp:coreProperties>
</file>